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F01-2301-4B2D-90AA-7100965B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6B7-1130-4F71-B391-C06953F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349-BE28-4DAE-B6E1-1E6D246A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8E6-CEAE-461A-B37D-741C2860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6FB-2A0E-480A-A747-42A85680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87B-8C97-423A-8A50-EE15447D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86D-9DFF-4F5B-B46F-F7DC37BF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88E-F2F2-4855-BC3A-D722CF85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DFD-FB44-4B1A-AAEB-3C09103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2BD-B5B0-4EF2-9474-64CA4BDB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956-EC19-4F91-A004-CF782736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366-5199-4C21-99F5-842ABF8B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6C30-136D-4986-A7E8-F17A0EC5B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2880" y="576360"/>
            <a:ext cx="80582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9:57:48Z</dcterms:created>
  <dc:creator>gbagnati</dc:creator>
  <dc:description/>
  <dc:language>en-US</dc:language>
  <cp:lastModifiedBy>gbagnati</cp:lastModifiedBy>
  <dcterms:modified xsi:type="dcterms:W3CDTF">2009-06-05T20:09:32Z</dcterms:modified>
  <cp:revision>2</cp:revision>
  <dc:subject/>
  <dc:title>Diapositiva 1</dc:title>
</cp:coreProperties>
</file>